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692-1A4A-459C-8875-BEB8C740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B74-37A2-4CE5-88EE-70B36B2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A70-00CB-49FF-B712-DA6E7817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A06-68E6-4A8F-A24F-ABBE4DFC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7AB-8085-4CDC-82D9-D876438A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A3D-9F74-44C4-995C-044257F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353-7273-4DBE-AAFE-59A03B6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8E3-A517-4491-9555-58C975A3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1E-8E32-4BC5-8C93-658FCAD2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C81-129E-46CE-9997-B7CE75A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772-8DFC-4E2E-8B73-96DA720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860-C640-492A-A53C-BD0A55B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624-89DF-48C3-A7ED-40C201AE6E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80880" y="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новне струковне студиј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5486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КАТЕДРА ЗА 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438280"/>
            <a:ext cx="744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ФАКТОРИ КОЈИ УТИЧУ НА ВРЕДНОС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БАЗАЛНОГ МЕТАБОЛИЗМА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358800" y="41940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-ПРАКТИЧАН РАД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24:46Z</dcterms:created>
  <dc:creator>JUGA</dc:creator>
  <dc:description/>
  <dc:language>en-US</dc:language>
  <cp:lastModifiedBy>XP</cp:lastModifiedBy>
  <dcterms:modified xsi:type="dcterms:W3CDTF">2014-02-07T09:03:59Z</dcterms:modified>
  <cp:revision>97</cp:revision>
  <dc:subject/>
  <dc:title>ANTROPOMETRIJAS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